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5332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0000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4668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9336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177480"/>
            <a:ext cx="1046484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1046484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0956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154160" indent="-4939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598760" indent="-4939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204300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48760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48760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48760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05040"/>
            <a:ext cx="396252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6116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988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3896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2768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1676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1676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1676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5332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0000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4668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9336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71640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21040" indent="-5202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25320" indent="-5202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2960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3424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3424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3424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6847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7172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5836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45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31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31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31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82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485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82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485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hemicalelements.com/" TargetMode="External"/><Relationship Id="rId3" Type="http://schemas.openxmlformats.org/officeDocument/2006/relationships/hyperlink" Target="http://www.chemicalelements.com/elements/si.html" TargetMode="External"/><Relationship Id="rId4" Type="http://schemas.openxmlformats.org/officeDocument/2006/relationships/hyperlink" Target="http://mugentech.net/mugenstore/images/ps3-silicon.jpg" TargetMode="External"/><Relationship Id="rId5" Type="http://schemas.openxmlformats.org/officeDocument/2006/relationships/hyperlink" Target="http://images.google.com/imgres?imgurl=http://mugentech.net/mugenstore/images/ps3-silicon.jpg&amp;imgrefurl=http://mugentech.net/mugenstore/index.php%3FcPath%3D82&amp;usg=__cWuB3-jlQmGRRMLpevLcK_M2PRQ=&amp;h=400&amp;w=400&amp;sz=57&amp;hl=en&amp;start=64&amp;um=1&amp;tbnid=0yJRVRCx7Tt-_M:&amp;t" TargetMode="External"/><Relationship Id="rId6" Type="http://schemas.openxmlformats.org/officeDocument/2006/relationships/hyperlink" Target="http://www.chemistryexplained.com/elements/P-T/Silicon.html" TargetMode="External"/><Relationship Id="rId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364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ilic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193760" y="4178160"/>
            <a:ext cx="10617120" cy="528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Si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atomic num. 14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atomic mass 28.0855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657240" y="200628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group 14 period 2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1803240" y="3962520"/>
            <a:ext cx="8737920" cy="40780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 flipV="1">
            <a:off x="7467480" y="3669840"/>
            <a:ext cx="1130400" cy="12193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3149640" y="1155600"/>
            <a:ext cx="67057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Loc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tructur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1422360" y="3137040"/>
            <a:ext cx="918216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2298240" y="12060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sotopes 28-32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o 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2971800" y="1663560"/>
            <a:ext cx="4673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Isotopes and 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663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reated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Jon J. Berzeliu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iscovered in 1823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iscovered in swede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0920"/>
            <a:ext cx="10464840" cy="244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hysical propertie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6108840" y="2832120"/>
            <a:ext cx="4863960" cy="535932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1803240" y="4470480"/>
            <a:ext cx="348012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 metallic luster and a blackish, gray color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use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licon is used to make silicone sealan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y also use it to make barbecue brushes because they wont fray like normal on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2222640" y="6705720"/>
            <a:ext cx="2668320" cy="29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Interesting Fact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98320" y="86328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90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90920" indent="-508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common disease in miners of silicon is silicosis it is a lung disease that is causes by inhaling large quantities of silicon dust. 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90920" indent="-508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melting point of silicon is 1414 degrees Celsius and its boiling point is 3265 degrees Celsiu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Bibliography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605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3000"/>
          </a:bodyPr>
          <a:p>
            <a:pPr marL="559800" indent="-3596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orks Cited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marL="5598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"Chemical Elements.com - An Interactive Periodic Table of the Elements."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mical Elements.com - An Interactive Periodic Table of the Element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 N.p., n.d. Web. 30 Nov. 2009. &lt;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chemicalelements.com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gt;.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marL="559800" indent="0">
              <a:lnSpc>
                <a:spcPts val="2699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"Chemical Elements.com - Silicon (Si)."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mical Elements.com - An Interactive Periodic Table of the Element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 N.p., n.d. Web. 19 Nov. 2009. &lt;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chemicalelements.com/elements/si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gt;.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marL="559800" indent="0">
              <a:lnSpc>
                <a:spcPts val="2699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" Google Image Result for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mugentech.net/mugenstore/images/ps3-silicon.jp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"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ogle Imag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 N.p., n.d. Web. 19 Nov. 2009. &lt;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http://images.google.com/imgres?imgurl=http://mugentech.net/mugenstore/images/ps3-silicon.jpg&amp;imgrefurl=http://mugentech.net/mugenstore/index.php%3FcPath%3D82&amp;usg=__cWuB3-jlQmGRRMLpevLcK_M2PRQ=&amp;h=400&amp;w=400&amp;sz=57&amp;hl=en&amp;start=64&amp;um=1&amp;tbnid=0yJRVRCx7Tt-_M:&amp;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gt;.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marL="559800" indent="0">
              <a:lnSpc>
                <a:spcPts val="2699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"Periodic Table of Elements ."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airie Hills Middle School Student Handbook 2009-2010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Aug. 2009: 109. Print.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marL="559800" indent="0">
              <a:lnSpc>
                <a:spcPts val="2699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"Silicon, Chemical Element  - Overview, Discovery and naming, Physical properties, Chemical properties, Occurrence in nature, Isotopes."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mistry: Foundations and Application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 N.p., n.d. Web. 30 Nov. 2009. &lt;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http://www.chemistryexplained.com/elements/P-T/Silicon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gt;.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marL="559800" indent="0">
              <a:lnSpc>
                <a:spcPts val="2699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"Silicon."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mical Element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 Version 1. University of Sheffield, n.d. Web. 24 Nov. 2009. &lt;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ttp://chemicalelements.com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gt;.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marL="559800" indent="0">
              <a:lnSpc>
                <a:spcPts val="2699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"Silicon."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orld Boo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 Student ed. 2009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orld Boo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 Web. 23 Nov. 2009.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marL="559800" indent="0">
              <a:lnSpc>
                <a:spcPts val="2699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nknown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licon atom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 N.d. None , Unknown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ogle Imag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 Web. 21 Nov. 2009.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marL="559800" indent="0">
              <a:lnSpc>
                <a:spcPts val="2699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nknown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licone brus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 N.d. Unknown, Unknown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mical Element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 Web. 24 Nov. 2009.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marL="559800" indent="0">
              <a:lnSpc>
                <a:spcPts val="2699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"World Book Home."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orld Book Hom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 N.p., n.d. Web. 18 Nov. 2009. &lt;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ttp://worldbook.com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gt;.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marL="559800" indent="0">
              <a:lnSpc>
                <a:spcPts val="2699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marL="5598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marL="5598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LA formatting by BibMe.org.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marL="5598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